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14EA-7202-431F-9DAB-73093858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C1FB-5248-45B9-9CB7-B8F6358F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AB1F-E015-42DA-AE43-1302360B9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7E20-6E59-4C3A-B47B-E54372FD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7561-5FA3-4B95-99D9-9EB7F625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816E-7E32-40A8-8350-D2FB64ED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06AF-04F4-429C-AF1D-BFBE6350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494-9C74-4DED-840C-084EA961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3C56-C38D-4F91-A86F-64DE8022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32BA-782E-4359-90D8-1F88E569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ABA5-52B9-42AA-AA12-026199A3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9124-B60D-41A0-B459-270D2E95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61670-98F3-4AEF-946A-FD45A12566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792A9-C534-46E2-9B02-5740F70CE8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4 Homework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lorophyll is a green pigment found in chloroplast that is the primary catalyst of photosynthesis.  Chlorophyll is a molecule that absorbs light energy and the chlorophyll molecule loses electr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lorophyll “a” molecule is responsible for converting most of the energy to chemical energ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ween 500 to 600 nm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lect green l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ght reaction- takes place on the thylakoid membrane.  Input is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 and Light.  The output is NADPH and ATP. 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released as wast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vin Cycle – Takes place in the Stroma, input is NADH and ATP from the light reaction.  Nee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rom the atmosphere and output is 2 PGAL molecules (sugar).  ADP +P and NADP is released back for the light rx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GAL is phosphoglyceraldehyde is a 3 carbon molecule (sugar) that is produced in the calvin cycle.  2 of these make a glucose molecu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uBP is Ribulose Bisphosphate and it is the compound that is found in the calvin cycle.  It is found at the beginning and end of the calvin cycl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rect 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ght wavelengths and intensity of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fficient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ough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thway the normal pathway and called this because a 3 carbon molecule is produced (PG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athway is the pathway of plants that open their stomata partially during the day.  They make a 4 carbon molecule instead of the 3 carbon molecule.  Ex. corn or crabg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 – Open their stomata at night and close during the day.  Ex. Pineapples and Cac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trophs – make their own food- cac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terotrophs – consume their food -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Question 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P is the fuel for our cel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enosine triphosph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en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ib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phosph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nergy is in the bon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P          ADP + P +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is the resu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4"/>
          <p:cNvCxnSpPr/>
          <p:nvPr/>
        </p:nvCxnSpPr>
        <p:spPr>
          <a:xfrm>
            <a:off x="1599840" y="1904760"/>
            <a:ext cx="686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P has one more phosphate than ADP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P has more energy because it has more bonds and energy is in the bo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lysis is when a water molecule breaks a bond.  For example, making a polysaccharide a monosaccharide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hydration synthesis is when a water molecule is removed and combines molecules toge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otosynthesis is turning light energy into chemical energy (glucose) with the use of chloropla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6 CO2  + 6 H2O + Light           C6H12O6  +  6 O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Straight Arrow Connector 4"/>
          <p:cNvCxnSpPr/>
          <p:nvPr/>
        </p:nvCxnSpPr>
        <p:spPr>
          <a:xfrm>
            <a:off x="4723920" y="1904760"/>
            <a:ext cx="686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estion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cientist that discovered the exact process of photosynthesis in 1950.  He earned a nobel prize for his research.   He used radioactive isotopes in Carbon and Oxygen to discover the proces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4T22:04:38Z</dcterms:created>
  <dc:creator>jcobb</dc:creator>
  <dc:description/>
  <dc:language>en-US</dc:language>
  <cp:lastModifiedBy>Jason Cobb</cp:lastModifiedBy>
  <dcterms:modified xsi:type="dcterms:W3CDTF">2012-11-04T22:07:11Z</dcterms:modified>
  <cp:revision>6</cp:revision>
  <dc:subject/>
  <dc:title>Chapter 4 Homework Questions</dc:title>
</cp:coreProperties>
</file>